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6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13.xml" ContentType="application/vnd.openxmlformats-officedocument.theme+xml"/>
  <Override PartName="/ppt/theme/theme37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38.xml" ContentType="application/vnd.openxmlformats-officedocument.theme+xml"/>
  <Override PartName="/ppt/theme/theme26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_rels/presentation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4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</p:sldMasterIdLst>
  <p:sldIdLst>
    <p:sldId id="256" r:id="rId40"/>
    <p:sldId id="257" r:id="rId41"/>
    <p:sldId id="258" r:id="rId42"/>
    <p:sldId id="259" r:id="rId43"/>
    <p:sldId id="260" r:id="rId44"/>
    <p:sldId id="261" r:id="rId45"/>
    <p:sldId id="262" r:id="rId46"/>
    <p:sldId id="263" r:id="rId47"/>
    <p:sldId id="264" r:id="rId48"/>
    <p:sldId id="265" r:id="rId49"/>
    <p:sldId id="266" r:id="rId50"/>
    <p:sldId id="267" r:id="rId5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" Target="slides/slide1.xml"/><Relationship Id="rId41" Type="http://schemas.openxmlformats.org/officeDocument/2006/relationships/slide" Target="slides/slide2.xml"/><Relationship Id="rId42" Type="http://schemas.openxmlformats.org/officeDocument/2006/relationships/slide" Target="slides/slide3.xml"/><Relationship Id="rId43" Type="http://schemas.openxmlformats.org/officeDocument/2006/relationships/slide" Target="slides/slide4.xml"/><Relationship Id="rId44" Type="http://schemas.openxmlformats.org/officeDocument/2006/relationships/slide" Target="slides/slide5.xml"/><Relationship Id="rId45" Type="http://schemas.openxmlformats.org/officeDocument/2006/relationships/slide" Target="slides/slide6.xml"/><Relationship Id="rId46" Type="http://schemas.openxmlformats.org/officeDocument/2006/relationships/slide" Target="slides/slide7.xml"/><Relationship Id="rId47" Type="http://schemas.openxmlformats.org/officeDocument/2006/relationships/slide" Target="slides/slide8.xml"/><Relationship Id="rId48" Type="http://schemas.openxmlformats.org/officeDocument/2006/relationships/slide" Target="slides/slide9.xml"/><Relationship Id="rId49" Type="http://schemas.openxmlformats.org/officeDocument/2006/relationships/slide" Target="slides/slide10.xml"/><Relationship Id="rId50" Type="http://schemas.openxmlformats.org/officeDocument/2006/relationships/slide" Target="slides/slide11.xml"/><Relationship Id="rId51" Type="http://schemas.openxmlformats.org/officeDocument/2006/relationships/slide" Target="slides/slide12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1617C-D180-47F4-A06D-24EE44A00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D0A61-C81E-4C37-A101-D5903AA67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547CA9-FD27-4BA0-8BDB-A46D570BD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0E9C13-2C49-4517-86FA-1E1B6866B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EC7982-C775-4435-9664-CCE5778A1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D89848-C349-4588-AAF6-FDC092C9D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6757BA-34F1-41E7-A614-280F3DA36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BD6F98-0079-462F-89EC-2C4E52A17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94353D-2108-4066-B4CE-72DC97381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529F2E-5FEB-413A-A78E-F81480E0E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19EA72-A053-4653-959B-C1788DF04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F51122-921F-42BB-8C45-C91697896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58F93-D064-4E13-B5B8-B5245071C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C21400-53FB-4CB1-98F2-7B69A0CA5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FD0958-47EC-4F3F-85C3-9A920F502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B4527D-A262-49F9-95DD-CC4EE248E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D6C208-0F74-495E-90FF-3F79A3641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DF9F62-6F45-4A50-A10B-F36C17CCE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02C5D6-69A5-49EA-A744-DD694B108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048BE9-3F15-46EC-A2ED-ED6D4A3A3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A54C17-5D6F-4C94-AD78-6BEBE3922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8F98B4-1D90-49DC-9DAA-D09E97C0C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53931C-85DC-4975-B48D-90F102786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F354E-7D52-408D-B98B-7560A4C36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F5E49A-8D7C-4E49-A3A1-1EBB4B1D6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7E2509-B841-4D3B-A0AE-8B3813482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CD16C0-DE46-4C25-8596-F56698B86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B573BC-4B02-402F-A54E-3C4F8C76A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A56080-5E6C-417F-8517-4292D76F4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E2A730-D664-462D-9277-344C824B8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958F11-C4AF-4A0E-BEC6-5CD8385F9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C0780B-6456-42EF-861C-EC4509789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6C0C12-1637-46AC-A9FC-055250BA8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075CDE-0C50-4B01-9515-2A0177665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73DE1-637A-4583-A8E4-4C1D833FA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253D3F-116B-4050-BA8A-28FF9BF41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BCD2CA-423C-4236-9A18-FD2C6C0D8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9C926C-4495-41C8-9BCE-4A1A17FAA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665868-726B-4E36-9EF7-F3366F3AC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720B84-5A25-4BAD-A8C1-4271E03F9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3B0220-C374-4782-A2FC-0C5B1E524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B9C14B-6DB6-467F-9580-14F84CCED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51D61D-0023-4CEE-B489-DF17DED83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EC95CB-9839-42C1-B5C9-BB79B6DDA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2F1A55-B6E8-44B0-A6EF-95E05A033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33D5E-E7A3-40D7-8E0F-9AC38D333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6A7F29-1DA9-4591-858E-C5071D6D1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856CC8-3A17-412C-A847-10147D30D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918104-B496-45A8-A1E9-C9F70F072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9D538C-652D-4B96-9684-591E9293F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7EB582-CBEA-478E-9AFE-B4EBA3DD7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57AAEAE-B722-420D-BF11-555C58EA3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64FF48A-1E56-4304-992D-C6E77F074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5AE6CAE-7901-4BF0-B1F9-DD5B72FB8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198C017-DD68-442D-ACCD-3DFB60980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080BE95-F3D6-4B67-91CE-A00ADE187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2F7FF-09ED-4F3E-84CA-8B0069558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3BB6E67-41A9-412A-897D-E1D538A5A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EB8DFA7-7F65-4A6E-BABB-B49E4C457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EE4DFEC-8C5A-4A2E-98E6-65BCA8C03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43212E1-67AE-40CA-BDAB-8BEF75D43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64DD1B9-CD5B-4ECE-B065-A790CD939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18A77FE-C97D-402C-91F4-FA17B4E8C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EE80825-6991-474C-A894-DC436E8C0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A51397B-E278-4A35-BF41-67BEB2AAC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E6D7EF1-F543-40F4-A07B-C024778CC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F4465BE-0855-48B4-BF7C-0FED22763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E913B-F61D-4798-9004-B7D0E4FED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672C9FD-B34A-478A-BB59-1CB038102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DAF5C75-1FC4-4ED0-9302-C9BBCB6A4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ECB12DC-24ED-4A51-9101-830CA6C49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360676B-7E8F-4441-BA2C-D03336444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D325DF4-95B5-4A73-A209-322FCB32F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AF60BA4-81B7-48D9-92DB-3DE6D0EA6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46AF00F-38F6-46FB-A529-EFA9350E1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9C1440E-841D-4D0C-B883-934CA1417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8E1C10D-192A-4C84-AD21-DB8938F75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D8E1E45-11EA-471E-BC6A-A36DF1B5A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7E1C2-94F2-4E31-B034-080A66E6F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16E8263-1680-4908-BE06-A1E99FA75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71AC81C-5298-48B9-A06B-C49D3EDB7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18E5B79-E434-42D7-BDC7-1FB87DE9C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6CC619E-4825-4A30-B707-B47166EA8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2A59F8C-FC01-4A2D-B2D9-6EA7C93F0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72B8A49-5EC0-46C8-AB19-3FF7CCA65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07DB42F-587C-4978-8E75-9EA16C09D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F8653BC-A223-43ED-B235-69A6A3A0B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86C95D2-8685-48B0-9E45-A92A98BE2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A80CBDC-C366-4A2C-A567-CA0360023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32E38-3544-445E-8863-8A9733768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6C0C1B4-FD70-417E-A5D2-963D4FF30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8FF6BDE-079B-4A19-846C-248272006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DDD1F99-B0E7-4121-8117-C9ECE2B7C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D8A0C01-C331-49E6-B0E7-3BA06B083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7652BE7-44F0-4DF6-A79B-E35482D7C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E6A5169-5E4D-4B53-AC0E-764C1BB36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FBE24AD-0E8B-4E99-909C-C7C51ACAA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0AF2C0B-0722-4909-AB9B-026EFAAC3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B43D365-FB90-400A-9A50-8A62D8AC0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0D75E24-2A6E-4C48-96D9-63E86E8B6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F915C-DA81-48C2-B0BF-F79075A42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B145122-F3A0-4BB1-8472-D24206CEE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889C534-1F7E-4AF9-BC56-5B39BD690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57DEE6E-9720-4625-B311-8BB014E41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91601C8-DE54-4349-A1FA-5BDECE5FD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4C70E51-2B28-44EE-8328-B6A64E853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A41B9B5-8DC7-4DAC-8CA3-760692772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5081535-EB7B-4A22-BA51-1713FBFE4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6CAB4A3-59DC-42E4-9726-A8E44720D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A96C055-EC24-4D48-BC28-EFA490C49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BA94FCD-0A3B-4CB3-BB15-488057283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E8DE3-C42A-4818-8C2A-D0614C59B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5B1FA-7152-4E07-85D0-A306B0AFD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3C62093-BB5F-4E41-989B-D67EE89B2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829A3D0-3C95-4EC3-B2B8-6BA761F2A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E9A451C-B8F5-4923-9F39-756C932FA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B313FE8-25FA-4FFB-8CA2-EBBF95A77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C4E294B-1301-4AE1-B139-4B402D6DE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B33F0D9-2197-41D0-AD27-4B0B88C09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F509F3A-BC9D-4332-AF77-59E32944A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BD0AEA2-3E54-41BE-8A89-23BB67946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D3EB8E7-84AE-48EC-B9E9-E71AF2CBF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14A8BA5-6680-4B14-B1A1-E76360346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DA862-5E21-415F-86E0-C58917224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10F4EE2-9777-4AC1-8CC5-A69919C8F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607E4B2-CC0C-492A-BCF2-2ED4D39EC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DDD4ADF-82CE-4425-B33D-52E51CCCF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BD852B7-A1D6-4756-B378-A9D0F8900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DB626CD-6118-41BD-B32C-40DA267C5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304C868-E738-4F6B-B7B3-D6563D60F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1D66837-2B56-40B6-85A0-4EE2C9B93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2B9891B-9E98-45C8-8B2A-2B412447F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9240CB9-52FA-4409-92BC-EF3163F96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7966153-A313-450B-9784-E6313C18C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8AF5E-2F01-45FB-805A-6550D75F2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1030517-5536-4C80-8E9B-2B61C30F9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884A83C-E579-4828-BDC9-CBA125864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FBFB983-21BB-4F79-8549-007529192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A4777FC-FDED-430C-8C8E-9621BE614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DAD0600-155F-4948-BA3D-C623EB8FC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CB92208-5D2D-4C52-8DC7-365CD70B1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C79919C-41B0-4DEA-9A4D-23480A23B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6FDA0AA-A717-4BAF-B09D-9DF10D53C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AE1382B-4A7C-4F8B-A90E-5B8BE2ED6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3033CD1-F392-48BF-9B76-C886714C7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86356-7455-4127-A25D-7C966E313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D8A3351-D50F-4748-A114-1B9FFC734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97F463F-69AD-46B7-88DF-F2350AAB9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37D191F-97ED-43FE-A61E-730E598C6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5BE7C1E-50E0-466F-8FC4-C523ACA83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8BFCA53-628F-4425-84FC-E097617E8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84663DB-B1E3-4EAB-9FA7-DC4869233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8F91A87-4FB6-475F-8A1C-7FE278969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C75C337-BBB7-4490-8D26-022C42101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06DBDC5-3D33-4A60-AD58-F820631AE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CE9E381-47F3-4477-B2AA-A3B9AEF94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55B37-3242-4888-AD30-AB32E85B9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6E94B84-1997-4774-9161-07A1D9F3C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9A15CF1-8CB8-4862-838B-07660E996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9206444-6526-4727-A532-F6A5C0749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B31C1E6-8206-4D15-9E64-B9CCDDFD4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DA4FED4-9FC7-48AE-8B92-046AC328E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4E876F8-CD95-4B3F-8767-7E374200B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0652A3D-728B-4413-A089-8A7D14596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3BA58C8-A3F6-4A0F-90CD-BDB936F69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213C368-7738-4F92-B5D0-3A872D77C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F259DE7-E450-4FC1-9AC2-EBF21A023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5ED51A-B434-4C98-9D74-E777F9237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93738EF-BCF2-4032-BFB4-13F8AD7CE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DC55E4A-3D51-42EB-9428-B2C982D8B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C242E20-B4B8-46E0-B646-7E5BC7057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C0B4563-2B03-4C16-B44B-8A7B65F59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0A9BFDA-E0D1-4883-848D-2D5963E4A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CB2CDA0-3484-4190-8602-555D70A96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E5A2586-F2B5-4626-BF10-74785EEED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ABD649C-DB2C-4C2A-9D04-C4B18A7A8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7F14FF3-81D7-44F1-8A78-F696D97C1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B5698D6-20E4-4B5F-A4EF-02559AA62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6C99F0-B975-480E-B4D7-E5F612E70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398DD7A-7E9B-4145-80DF-DC7D6A0E1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2EC769E-C083-4912-9091-B12C8DE88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2E94ACB-DC2A-485E-B6E1-15F2D0077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499F23D-E4F2-47C4-B58F-155331FEB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F2DEAF0-2134-4B45-81D2-544B1B645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64568F6-F9CF-4FBA-A213-61D3952F9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1CB01D4-E685-43C8-8E02-C45D2BC55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0DB3D03-7D30-44EC-A50D-E08D3407D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5DA07CA-A320-4099-B714-780773B1E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30AEA6D-676E-428C-9405-DE8DA23D0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77EBFB-44CF-41EE-A9A6-C447B9740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E77C43D-8D78-4C73-9D46-553D30A74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457A1D2-AC3A-4A7A-990B-E0DC4F899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8798841-89A0-4747-8EA6-11C387EBB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51FABDF-C401-4138-A461-8690D6768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A9E656B-1056-4113-BE1A-663511D46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3E30BBD-17B5-4CBF-BAFF-F9F7A1FD1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3FCA397-5FDA-4E30-82D2-911A0533A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8FC42F7-CDA6-4B8B-B1BB-54AFF2A96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414285F-B3C9-49C3-ADB3-4100FE903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1BFBF1D-C927-491C-85F2-A30505192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FC100E-187B-4D4D-AEF2-7AD4639CB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09A7804-37FF-4E10-BED0-FE457FE16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E3B75EB-8B02-4170-9F9E-C256A4DA9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3A161A1-BD5F-48B4-8437-2EFF87B7C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A56E690-F357-4C25-8697-473B7639F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1D158EC-51EC-42D8-A801-82EBE79D2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E3EF239-785D-49C4-8C77-AA52E21F1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1F57D15-7422-4C6B-8BCE-E6A7662D7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D6D346E-1D56-47DE-924F-CE5C1609A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D7B401E-CCC7-4972-BD8A-C63B5AB17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00D9F34-230D-45D4-8918-F01772F86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26368A-A33E-43AC-A97C-34092687A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CAC33DF-3A6E-460F-9EC1-3B1B4D611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BF67E6E-C55A-4D95-B443-AC9474376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2536437-441D-4596-8DC1-09BE2299B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42D184A-DABA-4B4C-AF15-06F24C947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BF2AFA9-5FC0-4B5F-90B7-ABCF11C28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1C4C34A-F022-47E9-B81C-A21E73C58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F992D4B-0373-4CB4-BB72-C5747390F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FA7089F-2811-45A4-86DA-5ED75D4AD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96E3A78-DECB-4814-A34C-1EADA0403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AEBAB28-2B30-4084-9755-FD33F32DD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C20DD-B778-4B02-ADD8-E6DA077C6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3C3F97-F767-42A6-9C5D-6D497EC5C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61E978C-A314-4C93-81F7-ED7BC4992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8366023-CC86-4A2F-A339-44D123BC6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8B931B1-0C31-4A4E-81FF-AE9E4D214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2A468EB-F0AD-40B4-864F-D9D13E34B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B3C21E0-1645-4582-B9B3-E559F63BC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B5687A7-38E6-43F0-B05C-1B72D0622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C23401A-8712-4A9B-AD5A-C081FB27A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BFCE60F-850B-475B-B151-87C76217B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A42243D-71AC-4843-B271-40A61DC3E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C739CEE-1858-4A09-8CA2-6F02F5807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CC1FCC-1535-4DB2-8069-E8387EA29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5BA1C94-4B42-4820-B54E-9012FA2BD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121CEC9-65CD-45C0-86BD-BAE16E059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32A2F27-D78B-4E69-AC8E-AEC005EF5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34A813B-822F-4E7B-9C50-06F918E97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086BDBD-2613-4E00-AD7F-CBD20B3D9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0A04894-BA93-4BFE-9DD7-87DF0ACF6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4FE37C6-BF77-4278-B6F7-49D7A6C3B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213DFFB-0813-400E-9199-72AFF8061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C3F8B5C-FA90-4949-834B-1DD11FCCC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8150B80-4B94-48C1-9AD8-23654F534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780AB6-C1A2-4284-9821-17B3CC880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66C0ADF-AD58-46D7-B2CB-55D398C53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8FE94A8-846E-47A4-B84A-0314F63F3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DD8E54E-87F5-48CA-ACC3-7703ABE9F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E96DB50-2754-4399-8CD4-5A914C1CF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D20F34C-C0F4-41AD-AEAA-41A6DE3BD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CF4C752-7D9B-4041-AD40-2E5495001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F970A74-A527-4495-994C-22F743DEC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B533DAD-C382-42BB-BF48-D2DF7FFAF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3592249-3F05-4119-B8B3-4ADCB5169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32F81DA-101C-427E-A540-7578D04F9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FAD512-5E9C-47DE-A166-DD08A1840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7E361A7-263B-46DB-A0CC-3615A7AB4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8D30918-DBD4-4082-9C28-3390381B9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3DBF30D-207A-4272-A6D4-AD50CAE33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E586416-D0F7-4F03-8887-DB54AF8A9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1E85D91-E064-48CA-96BB-7C65A2B5D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CCBC09A-259C-4D56-8DE5-D1815DCBA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3DA67CB-94C1-454F-A7A2-AB147EA70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00ABC93-A876-4C6A-BF47-24C19D212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F860A8E-A5DC-43D7-85FD-E73842894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3722DC5-8DCC-48F8-846B-A21643B42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8CD847-537A-4BD7-A4CE-96276EB06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430B257-C41B-4EDD-8A23-16ABF2D0C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E42B986-0F73-44C0-B565-33D4FC867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7410E5A-5AB1-4AF3-BFC7-A976FB1F9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B0A1C04-53B8-4DCD-87AC-5D65543C5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7557012-B789-460F-A4FC-3CB4D8D96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E1009ED-1255-4896-BFC0-B8EF25B19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7C2B8FF-D9C1-421B-B6D7-50A1F0C75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4799E81-79DF-4C97-9218-CF62AC5C3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19A8FF6-B510-4552-A0C0-F655E4E86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46A0BC6-E029-459B-8F66-0DDEC9FDE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B6FE8D-EC58-4827-B9A1-A0706A522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93A98C9-36C5-47CC-937B-751A61C02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019DB41-439D-4AB5-84E5-FEED6A8D4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562D0BA-D6EF-4903-9C24-7EB7D23ED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CAFD8F0-D7C8-40D0-A054-7F8F2C505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304CAA7-DBD3-42EC-B6E6-F4B12E287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698A503-1B2D-4345-9C55-3579F7B2E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21778F6-D564-4FF1-8E3A-2A702B7DD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80E0C58-7FFB-4F31-8D6A-189AB7EF5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282F7D2-53D4-4783-875C-C3B2303E8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9368515-C12B-4647-9A23-76E27B406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67D729-4DC1-4C15-A543-740DC2917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918851C-DF41-407A-9FC9-82C21031C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F0D3B60-B5EB-4443-9F7A-ABE0D2AEB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996C342-2E8C-49A7-A5E3-35D090011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7030211-08CA-4EE7-88EB-61E0EB26F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E224794-BB55-466F-BCDA-C08D470A2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EAFE3EB-EB0A-4F73-88DF-97707F4F4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CDA0FC4-EEA3-40EB-8414-2573C848A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B89D0CE-112B-4EFA-B55C-2B5AC8F8C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6054AF8-B69F-4A05-94F9-72E09C930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2FD767C-1558-4A66-A2C3-39121E42B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9548B8-0805-4E2F-9F0F-23E7F701D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E37DB63-0F67-4D6E-A846-CA73FCF5C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432A7BD-D436-4E3A-A8D4-A2C7779D8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7F4A55E-6856-4D65-8D65-66950E1E8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795D36BE-1344-4864-B5A1-7BB26F535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4557EC87-B4D5-4745-B11E-D962E87B8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70873ECB-96E0-4968-B396-328ED24D6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C4A9333A-033D-4993-B485-7A689F800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1BFB24DF-FF69-4F5C-8B2D-D408FE0C2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58A0BD96-41D3-4D86-AF0B-AFF628FF9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5AE7EC49-384A-4B81-8386-B7029B24F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3FE670-5934-464B-8586-E3DF71468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F511A10D-3AD4-4C8B-8CF9-BE18C2198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2AA173D5-43F6-4F96-82FE-AC6D16418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3D6E4254-40F1-4EAF-88EA-446AAE248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A77C8D16-D81D-41D4-A7E6-98739FE66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C1B9E47E-FA6A-49D1-94F6-1F487B648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D82EB4AF-1AA9-4228-9593-883AC9344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2DA45A56-12DD-416D-9EF0-625513D95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0AF5E8AB-6F7B-4690-9870-FB5B551DB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38099068-5DD9-4FE9-997F-A50732C82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153DEDD5-8FE8-47C0-A633-79C55B7E6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C689DD-5F04-4A3E-B2D4-1AA8B0477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4A7F92F0-CE2A-4C8E-BD68-AE5D0832F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5C93F3D0-5249-454E-8874-E96A422F2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35986FCB-1800-419B-9FA4-441EB37EE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71D4D0E0-B919-4DE2-A053-71027AAF3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DA158DC6-485D-4077-A440-39C7AA2F6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A36DBDD1-8A99-46F6-9152-4D497A3EC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E6090970-D417-4FEF-B61F-8C518C0F2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8B002AC0-FF73-49BA-8E2E-4D5858A36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865FEC65-1A55-4127-AC0E-D340005AF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0883F546-0F13-41E0-8DC0-70BC120D5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E1BE4-6942-44BC-BA5A-E70804986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34011A-2DAA-4712-A0C6-816CD856F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FF69BA4D-CF3A-4EB4-8B11-D6BA68BF4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D33109D9-65FC-4152-9E0C-27D6C7DF4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4062B29C-69AC-4C89-92A7-6C7AD4939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72C8ED32-C515-4EDB-963A-46B43B6EA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BB9376DD-3EAC-4184-B6D2-C8E92521D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05730F6E-7A93-420F-9A3C-BF1F280C4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E4DE3B19-A79B-456D-8DA5-285FAA829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9B79ABB3-DA4E-4112-9195-BE070FC33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70CA02AF-A0BA-41E3-88C5-F9645A2B4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5B913622-A9A2-4018-ABF6-788F6679B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A7D2D3-4ABD-4354-9B9B-80D5028FF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CA8742EE-E0B0-4A63-8B38-29D2F4796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BF3598CC-D75A-4B15-918B-28C38F57E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4BD795BA-7776-48EA-BA21-30405D429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6A52772B-7551-46CF-AB44-4A0E34E84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76A46F2E-FF7B-4226-B150-0D885CBC6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3B6DC982-F35A-46F4-8174-F2D682789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2B90CD40-1924-4EBE-8246-C22F98A14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8040DC2B-1C4C-4CFB-AD2E-B3381BDFF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8D061FA6-4243-4C10-BF8D-DFE2F2F12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F49B01EC-F89A-478F-843F-BA6D2878C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71B8E8-F274-4ED4-BF79-66925E775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B0831321-F579-4842-BC7F-D7EFBFE0A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2C1FB443-5649-4EB0-8D79-0C1351865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4D133276-57E8-4BF2-86CC-5F8248D40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41927DCC-0B97-4C91-90B0-7E2DFA445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6759C2D4-16A8-4242-9CB3-2E6A6EF70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BFD9A2BB-68C6-4994-BA1D-0E1FE50A7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86C09927-2882-4329-AA5E-C44212CE2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A642FE7B-6101-42BE-96F5-CB26BF195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A8FED839-5B88-465F-96B0-4A5392746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1EF655C9-7C88-49E9-8D12-4CC8090BE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6BC957-7295-4F43-9DB1-D02DA1149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C6209B02-4CE7-4B5C-9CD9-EBE65BC20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7A382ACA-25DA-44A6-A705-D252FF03B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C57493C8-B4F9-4CCA-A87C-4B5638703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01587870-0368-425A-A04F-E9D766102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D16D88D2-9276-4344-8336-394D6F646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55731573-8324-4FFE-928C-3718EC329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853225DE-1873-4023-9C30-C967E2A24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835487E9-E677-4ED9-8878-42033900F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52CE8C46-9C65-4E69-B2B9-AA4A22F15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B003114A-CCEA-4F63-8777-05C4AE7A2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94E789-9438-44B4-B6A8-B0AAB0289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83995C3C-5008-4D24-95F8-5A239FC11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1194D3D3-5ED2-4A6E-8E56-F50ACACCE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C8CF92AF-D6CF-49AD-9534-44EFDDA6C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4F8BC098-F831-41F2-97BA-A64E57AD9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5A73E65C-26FD-44B6-9FF2-04F4BB801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23535F9B-5B94-4CE6-808B-8247821BF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B26A5E3F-32F6-496C-A701-CE8A16155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0CE0E2EE-A74D-49E0-8F04-07BE6D944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4046169B-F55A-49D9-B23D-E2DA2393C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37960533-5A61-4434-A03A-8D81323E1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3AAACC-FFD2-4520-9A79-3DE509DFE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80460ADB-673F-4EF2-90A6-DB67A774B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43F6D722-2978-4B70-AE36-F424AB632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BEE55717-4BE1-4591-873C-6CF4BF6F6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7470EC7A-993C-4CDA-8689-817D841BE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3F185F2D-ED91-45C1-BAE2-D2DA20F55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5466F31A-F791-4119-8266-8DD255C04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2DCA7B19-A931-4568-8C28-38DED9FC8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1017C3-1D07-4C93-B3BD-DD1220DA3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805EC1-AE70-406F-96B6-ACD25468B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29EB30-A9E2-4D4F-A6C9-573A74B06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DA8A89-F603-46B4-A2D4-D71909960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4D888-3A2C-4BAA-98A7-BB5D90CB7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5F6E22-EBD4-4350-B7D6-196DD0CFE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25A816-7C40-46C6-A0DA-BE693B4B7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60EA78-3180-4D66-ADB4-54D2087AF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4708C1-598C-4598-B042-CD6D2CFCF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F1E8B4-21FC-4425-98C0-7D9DB28E6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0991F6-0BCA-4262-B9DE-2963FADE4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D926D8-C65E-460B-A579-127FD239C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484C0D-BF6D-4F28-86CE-5189B1186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E5FB62-B033-404B-B4C9-312ABB2CE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C723FE-BBDC-4E0B-9C94-0394A5A39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F9CF2-7041-4DC2-B334-09A33B90C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8D798C-BE38-45EB-8155-358048737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DBF9AD-AC69-40AB-9710-E6EE662A2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1A6127-0BB7-4848-8D4E-D1ECAA77F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244FB9-07A7-4897-93AC-699F50084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F874E0-C12D-42CC-87C7-6D86BAD11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5E7202-7794-4491-8138-6DD8FE8F0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4900B1-0189-427C-8A74-2D37305C7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07871E-B376-400D-9675-E24F46571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EB83D3-5D22-4A7E-921B-0188612D0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06DDE8-8B69-4339-ACE8-AA475038B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6BDD4-E93A-40E6-BB82-5AF3123D9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AFDE13-9F35-4E94-9E0D-69E279DAC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178B0A-2E8A-4F75-8150-7564D194F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432716-ED01-4901-BF79-4139CBBB4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686873-57CE-4081-9DE4-D06AEF0C1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AC1153-8D39-4579-9FFC-5061A30B6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C1B2CD-17FC-4FAB-AA80-6ED2DBA9A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832944-2FF7-445F-95A4-3D415C757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7114E4-DD32-4161-AB54-6EED39EA0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87078E-DB79-4B80-8399-4621EE02E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FEF803-EFB0-42BC-87CE-0DEEB2A19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C32D6-7863-4923-8AFA-9711FB5E0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8319D9-8034-43D4-B3F6-E1CCC47C1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0EB79C-25BB-448C-B2FB-BF3BF16DE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A315FB-59D4-4DE7-BF60-6CD427A98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EECB24-5A13-4D27-B342-ED1F54B54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7891C0-D2B5-452E-B1A4-8A74E52F5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E82457-8792-423C-A7BC-F005672FC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5425DD-1252-4837-813C-80EE2F904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A12CE1-B60D-4EAA-B7C9-D45441CAB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35A49F-EE08-4C26-BA7E-C5EC470A6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C94ADB-70D6-4E33-BC62-CEC678A59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0AE95-6955-49B4-B33A-1D4BAD666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3C97D3-423A-4410-885B-E67CF6C82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5EF4DC-954D-4358-B531-7692EA558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31AB70-EC87-4273-87A2-1F1444B7D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8D995F-2796-46EA-81CE-234EEE28B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EC7436-ACF3-48CA-A4F1-8F0C7F229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379359-7989-4F21-B917-99E4DC43D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C91B58-281E-4783-9530-0517C5ED5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FCE255-BA25-4334-903D-EAF5F5264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634D92-E88A-4C48-9166-866A8D294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C9EE36-D56D-455E-88B0-4E1EAF78C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slideLayout" Target="../slideLayouts/slideLayout373.xml"/><Relationship Id="rId3" Type="http://schemas.openxmlformats.org/officeDocument/2006/relationships/slideLayout" Target="../slideLayouts/slideLayout374.xml"/><Relationship Id="rId4" Type="http://schemas.openxmlformats.org/officeDocument/2006/relationships/slideLayout" Target="../slideLayouts/slideLayout375.xml"/><Relationship Id="rId5" Type="http://schemas.openxmlformats.org/officeDocument/2006/relationships/slideLayout" Target="../slideLayouts/slideLayout376.xml"/><Relationship Id="rId6" Type="http://schemas.openxmlformats.org/officeDocument/2006/relationships/slideLayout" Target="../slideLayouts/slideLayout377.xml"/><Relationship Id="rId7" Type="http://schemas.openxmlformats.org/officeDocument/2006/relationships/slideLayout" Target="../slideLayouts/slideLayout378.xml"/><Relationship Id="rId8" Type="http://schemas.openxmlformats.org/officeDocument/2006/relationships/slideLayout" Target="../slideLayouts/slideLayout379.xml"/><Relationship Id="rId9" Type="http://schemas.openxmlformats.org/officeDocument/2006/relationships/slideLayout" Target="../slideLayouts/slideLayout380.xml"/><Relationship Id="rId10" Type="http://schemas.openxmlformats.org/officeDocument/2006/relationships/slideLayout" Target="../slideLayouts/slideLayout381.xml"/><Relationship Id="rId11" Type="http://schemas.openxmlformats.org/officeDocument/2006/relationships/slideLayout" Target="../slideLayouts/slideLayout382.xml"/><Relationship Id="rId12" Type="http://schemas.openxmlformats.org/officeDocument/2006/relationships/slideLayout" Target="../slideLayouts/slideLayout383.xml"/><Relationship Id="rId13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slideLayout" Target="../slideLayouts/slideLayout385.xml"/><Relationship Id="rId3" Type="http://schemas.openxmlformats.org/officeDocument/2006/relationships/slideLayout" Target="../slideLayouts/slideLayout386.xml"/><Relationship Id="rId4" Type="http://schemas.openxmlformats.org/officeDocument/2006/relationships/slideLayout" Target="../slideLayouts/slideLayout387.xml"/><Relationship Id="rId5" Type="http://schemas.openxmlformats.org/officeDocument/2006/relationships/slideLayout" Target="../slideLayouts/slideLayout388.xml"/><Relationship Id="rId6" Type="http://schemas.openxmlformats.org/officeDocument/2006/relationships/slideLayout" Target="../slideLayouts/slideLayout389.xml"/><Relationship Id="rId7" Type="http://schemas.openxmlformats.org/officeDocument/2006/relationships/slideLayout" Target="../slideLayouts/slideLayout390.xml"/><Relationship Id="rId8" Type="http://schemas.openxmlformats.org/officeDocument/2006/relationships/slideLayout" Target="../slideLayouts/slideLayout391.xml"/><Relationship Id="rId9" Type="http://schemas.openxmlformats.org/officeDocument/2006/relationships/slideLayout" Target="../slideLayouts/slideLayout392.xml"/><Relationship Id="rId10" Type="http://schemas.openxmlformats.org/officeDocument/2006/relationships/slideLayout" Target="../slideLayouts/slideLayout393.xml"/><Relationship Id="rId11" Type="http://schemas.openxmlformats.org/officeDocument/2006/relationships/slideLayout" Target="../slideLayouts/slideLayout394.xml"/><Relationship Id="rId12" Type="http://schemas.openxmlformats.org/officeDocument/2006/relationships/slideLayout" Target="../slideLayouts/slideLayout395.xml"/><Relationship Id="rId13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slideLayout" Target="../slideLayouts/slideLayout397.xml"/><Relationship Id="rId3" Type="http://schemas.openxmlformats.org/officeDocument/2006/relationships/slideLayout" Target="../slideLayouts/slideLayout398.xml"/><Relationship Id="rId4" Type="http://schemas.openxmlformats.org/officeDocument/2006/relationships/slideLayout" Target="../slideLayouts/slideLayout399.xml"/><Relationship Id="rId5" Type="http://schemas.openxmlformats.org/officeDocument/2006/relationships/slideLayout" Target="../slideLayouts/slideLayout400.xml"/><Relationship Id="rId6" Type="http://schemas.openxmlformats.org/officeDocument/2006/relationships/slideLayout" Target="../slideLayouts/slideLayout401.xml"/><Relationship Id="rId7" Type="http://schemas.openxmlformats.org/officeDocument/2006/relationships/slideLayout" Target="../slideLayouts/slideLayout402.xml"/><Relationship Id="rId8" Type="http://schemas.openxmlformats.org/officeDocument/2006/relationships/slideLayout" Target="../slideLayouts/slideLayout403.xml"/><Relationship Id="rId9" Type="http://schemas.openxmlformats.org/officeDocument/2006/relationships/slideLayout" Target="../slideLayouts/slideLayout404.xml"/><Relationship Id="rId10" Type="http://schemas.openxmlformats.org/officeDocument/2006/relationships/slideLayout" Target="../slideLayouts/slideLayout405.xml"/><Relationship Id="rId11" Type="http://schemas.openxmlformats.org/officeDocument/2006/relationships/slideLayout" Target="../slideLayouts/slideLayout406.xml"/><Relationship Id="rId12" Type="http://schemas.openxmlformats.org/officeDocument/2006/relationships/slideLayout" Target="../slideLayouts/slideLayout407.xml"/><Relationship Id="rId13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slideLayout" Target="../slideLayouts/slideLayout409.xml"/><Relationship Id="rId3" Type="http://schemas.openxmlformats.org/officeDocument/2006/relationships/slideLayout" Target="../slideLayouts/slideLayout410.xml"/><Relationship Id="rId4" Type="http://schemas.openxmlformats.org/officeDocument/2006/relationships/slideLayout" Target="../slideLayouts/slideLayout411.xml"/><Relationship Id="rId5" Type="http://schemas.openxmlformats.org/officeDocument/2006/relationships/slideLayout" Target="../slideLayouts/slideLayout412.xml"/><Relationship Id="rId6" Type="http://schemas.openxmlformats.org/officeDocument/2006/relationships/slideLayout" Target="../slideLayouts/slideLayout413.xml"/><Relationship Id="rId7" Type="http://schemas.openxmlformats.org/officeDocument/2006/relationships/slideLayout" Target="../slideLayouts/slideLayout414.xml"/><Relationship Id="rId8" Type="http://schemas.openxmlformats.org/officeDocument/2006/relationships/slideLayout" Target="../slideLayouts/slideLayout415.xml"/><Relationship Id="rId9" Type="http://schemas.openxmlformats.org/officeDocument/2006/relationships/slideLayout" Target="../slideLayouts/slideLayout416.xml"/><Relationship Id="rId10" Type="http://schemas.openxmlformats.org/officeDocument/2006/relationships/slideLayout" Target="../slideLayouts/slideLayout417.xml"/><Relationship Id="rId11" Type="http://schemas.openxmlformats.org/officeDocument/2006/relationships/slideLayout" Target="../slideLayouts/slideLayout418.xml"/><Relationship Id="rId12" Type="http://schemas.openxmlformats.org/officeDocument/2006/relationships/slideLayout" Target="../slideLayouts/slideLayout419.xml"/><Relationship Id="rId13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slideLayout" Target="../slideLayouts/slideLayout421.xml"/><Relationship Id="rId3" Type="http://schemas.openxmlformats.org/officeDocument/2006/relationships/slideLayout" Target="../slideLayouts/slideLayout422.xml"/><Relationship Id="rId4" Type="http://schemas.openxmlformats.org/officeDocument/2006/relationships/slideLayout" Target="../slideLayouts/slideLayout423.xml"/><Relationship Id="rId5" Type="http://schemas.openxmlformats.org/officeDocument/2006/relationships/slideLayout" Target="../slideLayouts/slideLayout424.xml"/><Relationship Id="rId6" Type="http://schemas.openxmlformats.org/officeDocument/2006/relationships/slideLayout" Target="../slideLayouts/slideLayout425.xml"/><Relationship Id="rId7" Type="http://schemas.openxmlformats.org/officeDocument/2006/relationships/slideLayout" Target="../slideLayouts/slideLayout426.xml"/><Relationship Id="rId8" Type="http://schemas.openxmlformats.org/officeDocument/2006/relationships/slideLayout" Target="../slideLayouts/slideLayout427.xml"/><Relationship Id="rId9" Type="http://schemas.openxmlformats.org/officeDocument/2006/relationships/slideLayout" Target="../slideLayouts/slideLayout428.xml"/><Relationship Id="rId10" Type="http://schemas.openxmlformats.org/officeDocument/2006/relationships/slideLayout" Target="../slideLayouts/slideLayout429.xml"/><Relationship Id="rId11" Type="http://schemas.openxmlformats.org/officeDocument/2006/relationships/slideLayout" Target="../slideLayouts/slideLayout430.xml"/><Relationship Id="rId12" Type="http://schemas.openxmlformats.org/officeDocument/2006/relationships/slideLayout" Target="../slideLayouts/slideLayout431.xml"/><Relationship Id="rId13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slideLayout" Target="../slideLayouts/slideLayout433.xml"/><Relationship Id="rId3" Type="http://schemas.openxmlformats.org/officeDocument/2006/relationships/slideLayout" Target="../slideLayouts/slideLayout434.xml"/><Relationship Id="rId4" Type="http://schemas.openxmlformats.org/officeDocument/2006/relationships/slideLayout" Target="../slideLayouts/slideLayout435.xml"/><Relationship Id="rId5" Type="http://schemas.openxmlformats.org/officeDocument/2006/relationships/slideLayout" Target="../slideLayouts/slideLayout436.xml"/><Relationship Id="rId6" Type="http://schemas.openxmlformats.org/officeDocument/2006/relationships/slideLayout" Target="../slideLayouts/slideLayout437.xml"/><Relationship Id="rId7" Type="http://schemas.openxmlformats.org/officeDocument/2006/relationships/slideLayout" Target="../slideLayouts/slideLayout438.xml"/><Relationship Id="rId8" Type="http://schemas.openxmlformats.org/officeDocument/2006/relationships/slideLayout" Target="../slideLayouts/slideLayout439.xml"/><Relationship Id="rId9" Type="http://schemas.openxmlformats.org/officeDocument/2006/relationships/slideLayout" Target="../slideLayouts/slideLayout440.xml"/><Relationship Id="rId10" Type="http://schemas.openxmlformats.org/officeDocument/2006/relationships/slideLayout" Target="../slideLayouts/slideLayout441.xml"/><Relationship Id="rId11" Type="http://schemas.openxmlformats.org/officeDocument/2006/relationships/slideLayout" Target="../slideLayouts/slideLayout442.xml"/><Relationship Id="rId12" Type="http://schemas.openxmlformats.org/officeDocument/2006/relationships/slideLayout" Target="../slideLayouts/slideLayout443.xml"/><Relationship Id="rId13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slideLayout" Target="../slideLayouts/slideLayout445.xml"/><Relationship Id="rId3" Type="http://schemas.openxmlformats.org/officeDocument/2006/relationships/slideLayout" Target="../slideLayouts/slideLayout446.xml"/><Relationship Id="rId4" Type="http://schemas.openxmlformats.org/officeDocument/2006/relationships/slideLayout" Target="../slideLayouts/slideLayout447.xml"/><Relationship Id="rId5" Type="http://schemas.openxmlformats.org/officeDocument/2006/relationships/slideLayout" Target="../slideLayouts/slideLayout448.xml"/><Relationship Id="rId6" Type="http://schemas.openxmlformats.org/officeDocument/2006/relationships/slideLayout" Target="../slideLayouts/slideLayout449.xml"/><Relationship Id="rId7" Type="http://schemas.openxmlformats.org/officeDocument/2006/relationships/slideLayout" Target="../slideLayouts/slideLayout450.xml"/><Relationship Id="rId8" Type="http://schemas.openxmlformats.org/officeDocument/2006/relationships/slideLayout" Target="../slideLayouts/slideLayout451.xml"/><Relationship Id="rId9" Type="http://schemas.openxmlformats.org/officeDocument/2006/relationships/slideLayout" Target="../slideLayouts/slideLayout452.xml"/><Relationship Id="rId10" Type="http://schemas.openxmlformats.org/officeDocument/2006/relationships/slideLayout" Target="../slideLayouts/slideLayout453.xml"/><Relationship Id="rId11" Type="http://schemas.openxmlformats.org/officeDocument/2006/relationships/slideLayout" Target="../slideLayouts/slideLayout454.xml"/><Relationship Id="rId12" Type="http://schemas.openxmlformats.org/officeDocument/2006/relationships/slideLayout" Target="../slideLayouts/slideLayout455.xml"/><Relationship Id="rId13" Type="http://schemas.openxmlformats.org/officeDocument/2006/relationships/slideLayout" Target="../slideLayouts/slideLayout45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8E2D09F-5715-4BBD-BAD6-56A28EC6FAB4}" type="slidenum">
              <a:rPr b="0" lang="es-ES_trad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1A1857D-E6AA-4439-8696-6FC3F7A34676}" type="slidenum">
              <a:rPr b="0" lang="es-ES_tradn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483C7F-558A-419C-8662-BB69BCCD888E}" type="slidenum">
              <a:rPr b="0" lang="es-ES_tradn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4BF4858-8FAF-4D33-83B3-F4D4281BD44E}" type="slidenum">
              <a:rPr b="0" lang="es-ES_tradn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8DEC7F3-21FB-48C8-BCBC-F449C5F49CA2}" type="slidenum">
              <a:rPr b="0" lang="es-ES_tradn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32C2D5-FE13-4103-AC23-B85AE208BFA3}" type="slidenum">
              <a:rPr b="0" lang="es-ES_tradn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4F1768F-3C7F-48F0-B73C-5A3D7932D17E}" type="slidenum">
              <a:rPr b="0" lang="es-ES_tradn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4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4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4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D5B19E-65C1-4037-B6AF-F7FA043BDF3F}" type="slidenum">
              <a:rPr b="0" lang="es-ES_tradn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5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5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35DB31-A76F-4CBE-B9A2-077F83A6AC50}" type="slidenum">
              <a:rPr b="0" lang="es-ES_tradn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dt" idx="5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ftr" idx="5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sldNum" idx="5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1F19582-397B-4483-B8D9-631712E6ED32}" type="slidenum">
              <a:rPr b="0" lang="es-ES_tradn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 type="dt" idx="5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 type="ftr" idx="5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 type="sldNum" idx="5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08F0219-6FC2-4AD6-93B1-E023624B2518}" type="slidenum">
              <a:rPr b="0" lang="es-ES_tradn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623EFCB-2B0A-43C2-9604-A53E9B71F4F2}" type="slidenum">
              <a:rPr b="0" lang="es-ES_trad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 type="dt" idx="5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 type="ftr" idx="5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 type="sldNum" idx="6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909C66-A465-4EF5-A544-1F19412ECEFE}" type="slidenum">
              <a:rPr b="0" lang="es-ES_tradn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 type="dt" idx="6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 type="ftr" idx="6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 type="sldNum" idx="6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D6F7E36-C3CE-4E2F-8A8D-658ABA5DE763}" type="slidenum">
              <a:rPr b="0" lang="es-ES_tradn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 type="dt" idx="6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 type="ftr" idx="6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 type="sldNum" idx="6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6DD3D4C-A314-4F8B-887D-545C9189E1DA}" type="slidenum">
              <a:rPr b="0" lang="es-ES_tradn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 type="dt" idx="6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 type="ftr" idx="6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 type="sldNum" idx="6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8EF3213-3A30-4497-B182-B6FE24CE4B37}" type="slidenum">
              <a:rPr b="0" lang="es-ES_tradn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 type="dt" idx="7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 type="ftr" idx="7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 type="sldNum" idx="7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97066C8-AE60-456F-B4B8-4E711C1C3AE4}" type="slidenum">
              <a:rPr b="0" lang="es-ES_tradn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 type="dt" idx="7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 type="ftr" idx="7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5"/>
          <p:cNvSpPr>
            <a:spLocks noGrp="1"/>
          </p:cNvSpPr>
          <p:nvPr>
            <p:ph type="sldNum" idx="7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E55E58-2676-4C8D-B96E-BEBD12DA92CB}" type="slidenum">
              <a:rPr b="0" lang="es-ES_tradn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dt" idx="7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PlaceHolder 4"/>
          <p:cNvSpPr>
            <a:spLocks noGrp="1"/>
          </p:cNvSpPr>
          <p:nvPr>
            <p:ph type="ftr" idx="7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PlaceHolder 5"/>
          <p:cNvSpPr>
            <a:spLocks noGrp="1"/>
          </p:cNvSpPr>
          <p:nvPr>
            <p:ph type="sldNum" idx="7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9A812CA-0B0F-4333-9E07-40A9268A97AC}" type="slidenum">
              <a:rPr b="0" lang="es-ES_tradn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 type="dt" idx="7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 type="ftr" idx="8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 type="sldNum" idx="8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A93A692-6ECD-4505-AA84-2634953D6C6D}" type="slidenum">
              <a:rPr b="0" lang="es-ES_tradn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dt" idx="8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ftr" idx="8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sldNum" idx="8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544FFB-407F-4994-96C3-3731E40E6C7D}" type="slidenum">
              <a:rPr b="0" lang="es-ES_tradn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 type="dt" idx="8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PlaceHolder 4"/>
          <p:cNvSpPr>
            <a:spLocks noGrp="1"/>
          </p:cNvSpPr>
          <p:nvPr>
            <p:ph type="ftr" idx="8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5"/>
          <p:cNvSpPr>
            <a:spLocks noGrp="1"/>
          </p:cNvSpPr>
          <p:nvPr>
            <p:ph type="sldNum" idx="8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8F8EF31-96EC-4250-9CE0-BF5B9CFE5EF8}" type="slidenum">
              <a:rPr b="0" lang="es-ES_tradn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0C24D4-755E-484C-AA2A-8F50BB6B946D}" type="slidenum">
              <a:rPr b="0" lang="es-ES_trad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1" name="PlaceHolder 3"/>
          <p:cNvSpPr>
            <a:spLocks noGrp="1"/>
          </p:cNvSpPr>
          <p:nvPr>
            <p:ph type="dt" idx="8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PlaceHolder 4"/>
          <p:cNvSpPr>
            <a:spLocks noGrp="1"/>
          </p:cNvSpPr>
          <p:nvPr>
            <p:ph type="ftr" idx="8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PlaceHolder 5"/>
          <p:cNvSpPr>
            <a:spLocks noGrp="1"/>
          </p:cNvSpPr>
          <p:nvPr>
            <p:ph type="sldNum" idx="9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64416A-8EFB-4F2D-8236-3A1B1B9B369F}" type="slidenum">
              <a:rPr b="0" lang="es-ES_tradn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2" name="PlaceHolder 3"/>
          <p:cNvSpPr>
            <a:spLocks noGrp="1"/>
          </p:cNvSpPr>
          <p:nvPr>
            <p:ph type="dt" idx="9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PlaceHolder 4"/>
          <p:cNvSpPr>
            <a:spLocks noGrp="1"/>
          </p:cNvSpPr>
          <p:nvPr>
            <p:ph type="ftr" idx="9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PlaceHolder 5"/>
          <p:cNvSpPr>
            <a:spLocks noGrp="1"/>
          </p:cNvSpPr>
          <p:nvPr>
            <p:ph type="sldNum" idx="9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A804677-F7D8-4895-994F-F29F9CE4D415}" type="slidenum">
              <a:rPr b="0" lang="es-ES_tradn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3" name="PlaceHolder 3"/>
          <p:cNvSpPr>
            <a:spLocks noGrp="1"/>
          </p:cNvSpPr>
          <p:nvPr>
            <p:ph type="dt" idx="9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PlaceHolder 4"/>
          <p:cNvSpPr>
            <a:spLocks noGrp="1"/>
          </p:cNvSpPr>
          <p:nvPr>
            <p:ph type="ftr" idx="9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PlaceHolder 5"/>
          <p:cNvSpPr>
            <a:spLocks noGrp="1"/>
          </p:cNvSpPr>
          <p:nvPr>
            <p:ph type="sldNum" idx="9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DE258D-7279-487F-9E2E-3F30C813796A}" type="slidenum">
              <a:rPr b="0" lang="es-ES_tradn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2"/>
    <p:sldLayoutId id="2147484053" r:id="rId3"/>
    <p:sldLayoutId id="2147484054" r:id="rId4"/>
    <p:sldLayoutId id="2147484055" r:id="rId5"/>
    <p:sldLayoutId id="2147484056" r:id="rId6"/>
    <p:sldLayoutId id="2147484057" r:id="rId7"/>
    <p:sldLayoutId id="2147484058" r:id="rId8"/>
    <p:sldLayoutId id="2147484059" r:id="rId9"/>
    <p:sldLayoutId id="2147484060" r:id="rId10"/>
    <p:sldLayoutId id="2147484061" r:id="rId11"/>
    <p:sldLayoutId id="2147484062" r:id="rId12"/>
    <p:sldLayoutId id="2147484063" r:id="rId13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4" name="PlaceHolder 3"/>
          <p:cNvSpPr>
            <a:spLocks noGrp="1"/>
          </p:cNvSpPr>
          <p:nvPr>
            <p:ph type="dt" idx="9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PlaceHolder 4"/>
          <p:cNvSpPr>
            <a:spLocks noGrp="1"/>
          </p:cNvSpPr>
          <p:nvPr>
            <p:ph type="ftr" idx="9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PlaceHolder 5"/>
          <p:cNvSpPr>
            <a:spLocks noGrp="1"/>
          </p:cNvSpPr>
          <p:nvPr>
            <p:ph type="sldNum" idx="9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CD37C07-1723-498A-BC19-07D8A96F8CD8}" type="slidenum">
              <a:rPr b="0" lang="es-ES_tradn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2"/>
    <p:sldLayoutId id="2147484066" r:id="rId3"/>
    <p:sldLayoutId id="2147484067" r:id="rId4"/>
    <p:sldLayoutId id="2147484068" r:id="rId5"/>
    <p:sldLayoutId id="2147484069" r:id="rId6"/>
    <p:sldLayoutId id="2147484070" r:id="rId7"/>
    <p:sldLayoutId id="2147484071" r:id="rId8"/>
    <p:sldLayoutId id="2147484072" r:id="rId9"/>
    <p:sldLayoutId id="2147484073" r:id="rId10"/>
    <p:sldLayoutId id="2147484074" r:id="rId11"/>
    <p:sldLayoutId id="2147484075" r:id="rId12"/>
    <p:sldLayoutId id="2147484076" r:id="rId13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PlaceHolder 3"/>
          <p:cNvSpPr>
            <a:spLocks noGrp="1"/>
          </p:cNvSpPr>
          <p:nvPr>
            <p:ph type="dt" idx="10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PlaceHolder 4"/>
          <p:cNvSpPr>
            <a:spLocks noGrp="1"/>
          </p:cNvSpPr>
          <p:nvPr>
            <p:ph type="ftr" idx="10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PlaceHolder 5"/>
          <p:cNvSpPr>
            <a:spLocks noGrp="1"/>
          </p:cNvSpPr>
          <p:nvPr>
            <p:ph type="sldNum" idx="10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B587244-B23F-413D-AE51-46C565B73232}" type="slidenum">
              <a:rPr b="0" lang="es-ES_tradn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2"/>
    <p:sldLayoutId id="2147484079" r:id="rId3"/>
    <p:sldLayoutId id="2147484080" r:id="rId4"/>
    <p:sldLayoutId id="2147484081" r:id="rId5"/>
    <p:sldLayoutId id="2147484082" r:id="rId6"/>
    <p:sldLayoutId id="2147484083" r:id="rId7"/>
    <p:sldLayoutId id="2147484084" r:id="rId8"/>
    <p:sldLayoutId id="2147484085" r:id="rId9"/>
    <p:sldLayoutId id="2147484086" r:id="rId10"/>
    <p:sldLayoutId id="2147484087" r:id="rId11"/>
    <p:sldLayoutId id="2147484088" r:id="rId12"/>
    <p:sldLayoutId id="2147484089" r:id="rId13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6" name="PlaceHolder 3"/>
          <p:cNvSpPr>
            <a:spLocks noGrp="1"/>
          </p:cNvSpPr>
          <p:nvPr>
            <p:ph type="dt" idx="10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PlaceHolder 4"/>
          <p:cNvSpPr>
            <a:spLocks noGrp="1"/>
          </p:cNvSpPr>
          <p:nvPr>
            <p:ph type="ftr" idx="10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PlaceHolder 5"/>
          <p:cNvSpPr>
            <a:spLocks noGrp="1"/>
          </p:cNvSpPr>
          <p:nvPr>
            <p:ph type="sldNum" idx="10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57CE1D2-64C0-45F8-8AB6-216440A7462C}" type="slidenum">
              <a:rPr b="0" lang="es-ES_tradn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2"/>
    <p:sldLayoutId id="2147484092" r:id="rId3"/>
    <p:sldLayoutId id="2147484093" r:id="rId4"/>
    <p:sldLayoutId id="2147484094" r:id="rId5"/>
    <p:sldLayoutId id="2147484095" r:id="rId6"/>
    <p:sldLayoutId id="2147484096" r:id="rId7"/>
    <p:sldLayoutId id="2147484097" r:id="rId8"/>
    <p:sldLayoutId id="2147484098" r:id="rId9"/>
    <p:sldLayoutId id="2147484099" r:id="rId10"/>
    <p:sldLayoutId id="2147484100" r:id="rId11"/>
    <p:sldLayoutId id="2147484101" r:id="rId12"/>
    <p:sldLayoutId id="2147484102" r:id="rId13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7" name="PlaceHolder 3"/>
          <p:cNvSpPr>
            <a:spLocks noGrp="1"/>
          </p:cNvSpPr>
          <p:nvPr>
            <p:ph type="dt" idx="10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PlaceHolder 4"/>
          <p:cNvSpPr>
            <a:spLocks noGrp="1"/>
          </p:cNvSpPr>
          <p:nvPr>
            <p:ph type="ftr" idx="10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PlaceHolder 5"/>
          <p:cNvSpPr>
            <a:spLocks noGrp="1"/>
          </p:cNvSpPr>
          <p:nvPr>
            <p:ph type="sldNum" idx="10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2B1703-F9E9-4471-A00A-A5514330A62F}" type="slidenum">
              <a:rPr b="0" lang="es-ES_tradn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2"/>
    <p:sldLayoutId id="2147484105" r:id="rId3"/>
    <p:sldLayoutId id="2147484106" r:id="rId4"/>
    <p:sldLayoutId id="2147484107" r:id="rId5"/>
    <p:sldLayoutId id="2147484108" r:id="rId6"/>
    <p:sldLayoutId id="2147484109" r:id="rId7"/>
    <p:sldLayoutId id="2147484110" r:id="rId8"/>
    <p:sldLayoutId id="2147484111" r:id="rId9"/>
    <p:sldLayoutId id="2147484112" r:id="rId10"/>
    <p:sldLayoutId id="2147484113" r:id="rId11"/>
    <p:sldLayoutId id="2147484114" r:id="rId12"/>
    <p:sldLayoutId id="2147484115" r:id="rId13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8" name="PlaceHolder 3"/>
          <p:cNvSpPr>
            <a:spLocks noGrp="1"/>
          </p:cNvSpPr>
          <p:nvPr>
            <p:ph type="dt" idx="10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PlaceHolder 4"/>
          <p:cNvSpPr>
            <a:spLocks noGrp="1"/>
          </p:cNvSpPr>
          <p:nvPr>
            <p:ph type="ftr" idx="11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PlaceHolder 5"/>
          <p:cNvSpPr>
            <a:spLocks noGrp="1"/>
          </p:cNvSpPr>
          <p:nvPr>
            <p:ph type="sldNum" idx="11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3DEB7F-D273-4298-98AB-9D32C162F699}" type="slidenum">
              <a:rPr b="0" lang="es-ES_tradn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2"/>
    <p:sldLayoutId id="2147484118" r:id="rId3"/>
    <p:sldLayoutId id="2147484119" r:id="rId4"/>
    <p:sldLayoutId id="2147484120" r:id="rId5"/>
    <p:sldLayoutId id="2147484121" r:id="rId6"/>
    <p:sldLayoutId id="2147484122" r:id="rId7"/>
    <p:sldLayoutId id="2147484123" r:id="rId8"/>
    <p:sldLayoutId id="2147484124" r:id="rId9"/>
    <p:sldLayoutId id="2147484125" r:id="rId10"/>
    <p:sldLayoutId id="2147484126" r:id="rId11"/>
    <p:sldLayoutId id="2147484127" r:id="rId12"/>
    <p:sldLayoutId id="2147484128" r:id="rId13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9" name="PlaceHolder 3"/>
          <p:cNvSpPr>
            <a:spLocks noGrp="1"/>
          </p:cNvSpPr>
          <p:nvPr>
            <p:ph type="dt" idx="11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PlaceHolder 4"/>
          <p:cNvSpPr>
            <a:spLocks noGrp="1"/>
          </p:cNvSpPr>
          <p:nvPr>
            <p:ph type="ftr" idx="11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PlaceHolder 5"/>
          <p:cNvSpPr>
            <a:spLocks noGrp="1"/>
          </p:cNvSpPr>
          <p:nvPr>
            <p:ph type="sldNum" idx="11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CA1285-261A-4FBA-B95C-0318DDA8F3DE}" type="slidenum">
              <a:rPr b="0" lang="es-ES_tradn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2"/>
    <p:sldLayoutId id="2147484131" r:id="rId3"/>
    <p:sldLayoutId id="2147484132" r:id="rId4"/>
    <p:sldLayoutId id="2147484133" r:id="rId5"/>
    <p:sldLayoutId id="2147484134" r:id="rId6"/>
    <p:sldLayoutId id="2147484135" r:id="rId7"/>
    <p:sldLayoutId id="2147484136" r:id="rId8"/>
    <p:sldLayoutId id="2147484137" r:id="rId9"/>
    <p:sldLayoutId id="2147484138" r:id="rId10"/>
    <p:sldLayoutId id="2147484139" r:id="rId11"/>
    <p:sldLayoutId id="2147484140" r:id="rId12"/>
    <p:sldLayoutId id="2147484141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0AC930-D587-4775-8260-8BF34AA5C501}" type="slidenum">
              <a:rPr b="0" lang="es-ES_trad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DD00E86-3C5B-4BF2-8104-248F6E771570}" type="slidenum">
              <a:rPr b="0" lang="es-ES_trad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DE52D81-C0EE-458C-91D0-C5668D6128FE}" type="slidenum">
              <a:rPr b="0" lang="es-ES_tradn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0D1096B-3F27-4E35-B113-789A03C6BB79}" type="slidenum">
              <a:rPr b="0" lang="es-ES_tradn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2D11DD6-E738-46FA-A3EC-37804B9C6CB4}" type="slidenum">
              <a:rPr b="0" lang="es-ES_tradn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CE503AA-A695-44A2-A548-9D103709B1EC}" type="slidenum">
              <a:rPr b="0" lang="es-ES_tradn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CEB%20REGION%20III%20%20%20%20%20%20MAYO%2028%20DEL%202013.xls" TargetMode="External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9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9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9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8" name="PlaceHolder 1"/>
          <p:cNvSpPr>
            <a:spLocks noGrp="1"/>
          </p:cNvSpPr>
          <p:nvPr>
            <p:ph type="title"/>
          </p:nvPr>
        </p:nvSpPr>
        <p:spPr>
          <a:xfrm>
            <a:off x="0" y="3012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3400" spc="-1" strike="noStrike">
                <a:solidFill>
                  <a:srgbClr val="ffffff"/>
                </a:solidFill>
                <a:latin typeface="Arial"/>
                <a:ea typeface="Arial"/>
              </a:rPr>
              <a:t>Subcoordinación de Gestión Educativa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4" name="18 CuadroTexto"/>
          <p:cNvSpPr/>
          <p:nvPr/>
        </p:nvSpPr>
        <p:spPr>
          <a:xfrm>
            <a:off x="425520" y="1174680"/>
            <a:ext cx="733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2400" spc="-1" strike="noStrike">
                <a:solidFill>
                  <a:srgbClr val="800000"/>
                </a:solidFill>
                <a:latin typeface="Arial"/>
              </a:rPr>
              <a:t>Supervisión esco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5" name="1 CuadroTexto"/>
          <p:cNvSpPr/>
          <p:nvPr/>
        </p:nvSpPr>
        <p:spPr>
          <a:xfrm>
            <a:off x="569880" y="2035080"/>
            <a:ext cx="795960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2000" spc="-1" strike="noStrike">
                <a:solidFill>
                  <a:srgbClr val="003300"/>
                </a:solidFill>
                <a:latin typeface="Arial"/>
              </a:rPr>
              <a:t>1.- Nuevo marco normati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2000" spc="-1" strike="noStrike">
                <a:solidFill>
                  <a:srgbClr val="003300"/>
                </a:solidFill>
                <a:latin typeface="Arial"/>
              </a:rPr>
              <a:t>2.- Herramientas para garantizar normalidad míni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2000" spc="-1" strike="noStrike">
                <a:solidFill>
                  <a:srgbClr val="003300"/>
                </a:solidFill>
                <a:latin typeface="Arial"/>
              </a:rPr>
              <a:t>3.- Formación (capacitación oportuna y exhaustiv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2000" spc="-1" strike="noStrike">
                <a:solidFill>
                  <a:srgbClr val="003300"/>
                </a:solidFill>
                <a:latin typeface="Arial"/>
              </a:rPr>
              <a:t>4.- Certificación</a:t>
            </a:r>
            <a:r>
              <a:rPr b="1" lang="es-MX" sz="20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s-MX" sz="2400" spc="-1" strike="noStrike">
                <a:solidFill>
                  <a:srgbClr val="0033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6" name="1 CuadroTexto"/>
          <p:cNvSpPr/>
          <p:nvPr/>
        </p:nvSpPr>
        <p:spPr>
          <a:xfrm>
            <a:off x="506520" y="3814920"/>
            <a:ext cx="808668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Propósi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Planear, llevar un seguimiento y evaluar las acciones de la escuela  para lograr el aprendizaje de los alumn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2 CuadroTexto"/>
          <p:cNvSpPr/>
          <p:nvPr/>
        </p:nvSpPr>
        <p:spPr>
          <a:xfrm>
            <a:off x="1876320" y="5722920"/>
            <a:ext cx="4761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Redes de trabajo entre consejos técn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Aprendizaje entre pa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Trabajo colaborat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8" name="1 CuadroTexto"/>
          <p:cNvSpPr/>
          <p:nvPr/>
        </p:nvSpPr>
        <p:spPr>
          <a:xfrm>
            <a:off x="333720" y="1290600"/>
            <a:ext cx="529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s-MX" sz="2400" spc="-1" strike="noStrike">
                <a:solidFill>
                  <a:srgbClr val="800000"/>
                </a:solidFill>
                <a:latin typeface="Arial"/>
              </a:rPr>
              <a:t>Reuniones con el equipo de diseñ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9" name="1 Rectángulo"/>
          <p:cNvSpPr/>
          <p:nvPr/>
        </p:nvSpPr>
        <p:spPr>
          <a:xfrm>
            <a:off x="601560" y="1913040"/>
            <a:ext cx="7647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2400" spc="-1" strike="noStrike">
                <a:solidFill>
                  <a:srgbClr val="003300"/>
                </a:solidFill>
                <a:latin typeface="Arial"/>
              </a:rPr>
              <a:t>15 , 17, 22, 23 y 25 de abril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2400" spc="-1" strike="noStrike">
                <a:solidFill>
                  <a:srgbClr val="003300"/>
                </a:solidFill>
                <a:latin typeface="Arial"/>
              </a:rPr>
              <a:t>2, 3, 13,14, 16, 22, 23 y 24 de may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1 CuadroTexto"/>
          <p:cNvSpPr/>
          <p:nvPr/>
        </p:nvSpPr>
        <p:spPr>
          <a:xfrm>
            <a:off x="201600" y="5087880"/>
            <a:ext cx="894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s-MX" sz="2400" spc="-1" strike="noStrike">
                <a:solidFill>
                  <a:srgbClr val="800000"/>
                </a:solidFill>
                <a:latin typeface="Arial"/>
              </a:rPr>
              <a:t>Fortalecimiento del equipo de asesoría 500 + 300 - </a:t>
            </a:r>
            <a:r>
              <a:rPr b="1" i="1" lang="es-MX" sz="2000" spc="-1" strike="noStrike">
                <a:solidFill>
                  <a:srgbClr val="003300"/>
                </a:solidFill>
                <a:latin typeface="Arial"/>
              </a:rPr>
              <a:t>8 ses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1" name="4 Rectángulo"/>
          <p:cNvSpPr/>
          <p:nvPr/>
        </p:nvSpPr>
        <p:spPr>
          <a:xfrm>
            <a:off x="606600" y="6019920"/>
            <a:ext cx="813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24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es-MX" sz="2400" spc="-1" strike="noStrike">
                <a:solidFill>
                  <a:srgbClr val="003300"/>
                </a:solidFill>
                <a:latin typeface="Arial"/>
              </a:rPr>
              <a:t>11, 12, 13, 17, 18, 19, 24 y 25 de jun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2" name="1 CuadroTexto"/>
          <p:cNvSpPr/>
          <p:nvPr/>
        </p:nvSpPr>
        <p:spPr>
          <a:xfrm>
            <a:off x="336240" y="3232080"/>
            <a:ext cx="633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s-MX" sz="2400" spc="-1" strike="noStrike">
                <a:solidFill>
                  <a:srgbClr val="800000"/>
                </a:solidFill>
                <a:latin typeface="Arial"/>
              </a:rPr>
              <a:t>Reuniones con el grupo 40 + 30 - </a:t>
            </a:r>
            <a:r>
              <a:rPr b="1" i="1" lang="es-MX" sz="2000" spc="-1" strike="noStrike">
                <a:solidFill>
                  <a:srgbClr val="003300"/>
                </a:solidFill>
                <a:latin typeface="Arial"/>
              </a:rPr>
              <a:t>5 ses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1 Rectángulo"/>
          <p:cNvSpPr/>
          <p:nvPr/>
        </p:nvSpPr>
        <p:spPr>
          <a:xfrm>
            <a:off x="725400" y="3948120"/>
            <a:ext cx="764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2400" spc="-1" strike="noStrike">
                <a:solidFill>
                  <a:srgbClr val="003300"/>
                </a:solidFill>
                <a:latin typeface="Arial"/>
              </a:rPr>
              <a:t>30 y 31 de mayo; 7, 10 y 13 de jun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1 CuadroTexto"/>
          <p:cNvSpPr/>
          <p:nvPr/>
        </p:nvSpPr>
        <p:spPr>
          <a:xfrm>
            <a:off x="925560" y="763560"/>
            <a:ext cx="6114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2800" spc="-1" strike="noStrike">
                <a:solidFill>
                  <a:srgbClr val="800000"/>
                </a:solidFill>
                <a:latin typeface="Arial"/>
              </a:rPr>
              <a:t>CEB - Curso Bás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24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Conformación de un grup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5" name="1 Rectángulo"/>
          <p:cNvSpPr/>
          <p:nvPr/>
        </p:nvSpPr>
        <p:spPr>
          <a:xfrm>
            <a:off x="1136520" y="2341440"/>
            <a:ext cx="76456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1800" spc="-1" strike="noStrike">
                <a:solidFill>
                  <a:srgbClr val="003300"/>
                </a:solidFill>
                <a:latin typeface="Arial"/>
              </a:rPr>
              <a:t>-  </a:t>
            </a:r>
            <a:r>
              <a:rPr b="1" lang="es-MX" sz="2800" spc="-1" strike="noStrike">
                <a:solidFill>
                  <a:srgbClr val="003300"/>
                </a:solidFill>
                <a:latin typeface="Arial"/>
              </a:rPr>
              <a:t>30 integrant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33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2800" spc="-1" strike="noStrike">
                <a:solidFill>
                  <a:srgbClr val="003300"/>
                </a:solidFill>
                <a:latin typeface="Arial"/>
              </a:rPr>
              <a:t>integrado por todas las asignaturas, grados y nive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33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33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2800" spc="-1" strike="noStrike">
                <a:solidFill>
                  <a:srgbClr val="003300"/>
                </a:solidFill>
                <a:latin typeface="Arial"/>
              </a:rPr>
              <a:t>coordinado por un ases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6" name="11 CuadroTexto"/>
          <p:cNvSpPr/>
          <p:nvPr/>
        </p:nvSpPr>
        <p:spPr>
          <a:xfrm>
            <a:off x="617400" y="5103720"/>
            <a:ext cx="75265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s-MX" sz="2800" spc="-1" strike="noStrike">
                <a:solidFill>
                  <a:srgbClr val="a50021"/>
                </a:solidFill>
                <a:latin typeface="Arial"/>
              </a:rPr>
              <a:t>Se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33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2400" spc="-1" strike="noStrike">
                <a:solidFill>
                  <a:srgbClr val="003300"/>
                </a:solidFill>
                <a:latin typeface="Arial"/>
              </a:rPr>
              <a:t>Serán las Secundarias como eje de los CE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9" name="Rectangle 4"/>
          <p:cNvSpPr/>
          <p:nvPr/>
        </p:nvSpPr>
        <p:spPr>
          <a:xfrm>
            <a:off x="723960" y="1231920"/>
            <a:ext cx="7715160" cy="1556280"/>
          </a:xfrm>
          <a:prstGeom prst="rect">
            <a:avLst/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600" spc="-1" strike="noStrike">
                <a:solidFill>
                  <a:srgbClr val="ffffff"/>
                </a:solidFill>
                <a:latin typeface="Calibri"/>
                <a:ea typeface="Tahoma"/>
              </a:rPr>
              <a:t>Centros de Educación Básica – Consejo Técnico Escolar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600" spc="-1" strike="noStrike">
                <a:solidFill>
                  <a:srgbClr val="ffffff"/>
                </a:solidFill>
                <a:latin typeface="Calibri"/>
                <a:ea typeface="Tahoma"/>
              </a:rPr>
              <a:t>Ciclo escolar 2013 - 2014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Rectangle 4"/>
          <p:cNvSpPr/>
          <p:nvPr/>
        </p:nvSpPr>
        <p:spPr>
          <a:xfrm>
            <a:off x="366840" y="1384200"/>
            <a:ext cx="864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4 CuadroTexto"/>
          <p:cNvSpPr/>
          <p:nvPr/>
        </p:nvSpPr>
        <p:spPr>
          <a:xfrm>
            <a:off x="557280" y="3562200"/>
            <a:ext cx="826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3600" spc="-1" strike="noStrike">
                <a:solidFill>
                  <a:srgbClr val="800000"/>
                </a:solidFill>
                <a:latin typeface="Arial"/>
              </a:rPr>
              <a:t>Reunión de trabajo c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36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es-MX" sz="3600" spc="-1" strike="noStrike">
                <a:solidFill>
                  <a:srgbClr val="800000"/>
                </a:solidFill>
                <a:latin typeface="Arial"/>
              </a:rPr>
              <a:t>directores de la SC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2" name="4 CuadroTexto"/>
          <p:cNvSpPr/>
          <p:nvPr/>
        </p:nvSpPr>
        <p:spPr>
          <a:xfrm>
            <a:off x="6140160" y="5919840"/>
            <a:ext cx="257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2000" spc="-1" strike="noStrike">
                <a:solidFill>
                  <a:srgbClr val="003300"/>
                </a:solidFill>
                <a:latin typeface="Arial"/>
              </a:rPr>
              <a:t>28 de mayo de 20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PlaceHolder 1"/>
          <p:cNvSpPr>
            <a:spLocks noGrp="1"/>
          </p:cNvSpPr>
          <p:nvPr>
            <p:ph type="title"/>
          </p:nvPr>
        </p:nvSpPr>
        <p:spPr>
          <a:xfrm>
            <a:off x="837720" y="1182240"/>
            <a:ext cx="7543800" cy="1055880"/>
          </a:xfrm>
          <a:prstGeom prst="rect">
            <a:avLst/>
          </a:prstGeom>
          <a:noFill/>
          <a:ln w="28440">
            <a:solidFill>
              <a:srgbClr val="984807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s-MX" sz="2400" spc="-1" strike="noStrike">
                <a:solidFill>
                  <a:srgbClr val="003300"/>
                </a:solidFill>
                <a:latin typeface="Tahoma"/>
                <a:ea typeface="Tahoma"/>
              </a:rPr>
              <a:t>El</a:t>
            </a:r>
            <a:r>
              <a:rPr b="1" lang="es-MX" sz="2400" spc="-1" strike="noStrike">
                <a:solidFill>
                  <a:srgbClr val="800000"/>
                </a:solidFill>
                <a:latin typeface="Tahoma"/>
                <a:ea typeface="Tahoma"/>
              </a:rPr>
              <a:t> Centro de Educación Básica </a:t>
            </a:r>
            <a:r>
              <a:rPr b="1" i="1" lang="es-MX" sz="2400" spc="-1" strike="noStrike">
                <a:solidFill>
                  <a:srgbClr val="003300"/>
                </a:solidFill>
                <a:latin typeface="Tahoma"/>
                <a:ea typeface="Tahoma"/>
              </a:rPr>
              <a:t>que aprende</a:t>
            </a:r>
            <a:br>
              <a:rPr sz="2400"/>
            </a:br>
            <a:r>
              <a:rPr b="1" i="1" lang="es-MX" sz="2400" spc="-1" strike="noStrike">
                <a:solidFill>
                  <a:srgbClr val="003300"/>
                </a:solidFill>
                <a:latin typeface="Tahoma"/>
                <a:ea typeface="Tahoma"/>
              </a:rPr>
              <a:t>Consejo Técnico Escolar</a:t>
            </a:r>
            <a:br>
              <a:rPr sz="2400"/>
            </a:br>
            <a:r>
              <a:rPr b="1" lang="es-MX" sz="1600" spc="-1" strike="noStrike">
                <a:solidFill>
                  <a:srgbClr val="003300"/>
                </a:solidFill>
                <a:latin typeface="Tahoma"/>
                <a:ea typeface="Tahoma"/>
              </a:rPr>
              <a:t>Proyecto de trabajo (Lectura – Razonamiento matemático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64" name="6 CuadroTexto"/>
          <p:cNvGrpSpPr/>
          <p:nvPr/>
        </p:nvGrpSpPr>
        <p:grpSpPr>
          <a:xfrm>
            <a:off x="1000080" y="3139920"/>
            <a:ext cx="2840040" cy="1114560"/>
            <a:chOff x="1000080" y="3139920"/>
            <a:chExt cx="2840040" cy="1114560"/>
          </a:xfrm>
        </p:grpSpPr>
        <p:pic>
          <p:nvPicPr>
            <p:cNvPr id="1565" name="6 CuadroTexto" descr=""/>
            <p:cNvPicPr/>
            <p:nvPr/>
          </p:nvPicPr>
          <p:blipFill>
            <a:blip r:embed="rId2"/>
            <a:stretch/>
          </p:blipFill>
          <p:spPr>
            <a:xfrm>
              <a:off x="1000080" y="3139920"/>
              <a:ext cx="2840040" cy="111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6" name=""/>
            <p:cNvSpPr/>
            <p:nvPr/>
          </p:nvSpPr>
          <p:spPr>
            <a:xfrm>
              <a:off x="1057320" y="3216240"/>
              <a:ext cx="26575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s-MX" sz="2400" spc="-1" strike="noStrike">
                  <a:solidFill>
                    <a:srgbClr val="003300"/>
                  </a:solidFill>
                  <a:latin typeface="Calibri"/>
                </a:rPr>
                <a:t>Profesionalización directiva C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7" name="8 CuadroTexto"/>
          <p:cNvGrpSpPr/>
          <p:nvPr/>
        </p:nvGrpSpPr>
        <p:grpSpPr>
          <a:xfrm>
            <a:off x="5999040" y="3151080"/>
            <a:ext cx="2889360" cy="1122480"/>
            <a:chOff x="5999040" y="3151080"/>
            <a:chExt cx="2889360" cy="1122480"/>
          </a:xfrm>
        </p:grpSpPr>
        <p:pic>
          <p:nvPicPr>
            <p:cNvPr id="1568" name="8 CuadroTexto" descr=""/>
            <p:cNvPicPr/>
            <p:nvPr/>
          </p:nvPicPr>
          <p:blipFill>
            <a:blip r:embed="rId3"/>
            <a:stretch/>
          </p:blipFill>
          <p:spPr>
            <a:xfrm>
              <a:off x="5999040" y="3151080"/>
              <a:ext cx="2889360" cy="112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9" name=""/>
            <p:cNvSpPr/>
            <p:nvPr/>
          </p:nvSpPr>
          <p:spPr>
            <a:xfrm>
              <a:off x="6058080" y="3232080"/>
              <a:ext cx="2754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s-MX" sz="2400" spc="-1" strike="noStrike">
                  <a:solidFill>
                    <a:srgbClr val="003300"/>
                  </a:solidFill>
                  <a:latin typeface="Calibri"/>
                </a:rPr>
                <a:t>Profesionalización docente y asesor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0" name="7 CuadroTexto"/>
          <p:cNvGrpSpPr/>
          <p:nvPr/>
        </p:nvGrpSpPr>
        <p:grpSpPr>
          <a:xfrm>
            <a:off x="4743360" y="4505400"/>
            <a:ext cx="2614680" cy="749160"/>
            <a:chOff x="4743360" y="4505400"/>
            <a:chExt cx="2614680" cy="749160"/>
          </a:xfrm>
        </p:grpSpPr>
        <p:pic>
          <p:nvPicPr>
            <p:cNvPr id="1571" name="7 CuadroTexto" descr=""/>
            <p:cNvPicPr/>
            <p:nvPr/>
          </p:nvPicPr>
          <p:blipFill>
            <a:blip r:embed="rId4"/>
            <a:stretch/>
          </p:blipFill>
          <p:spPr>
            <a:xfrm>
              <a:off x="4743360" y="4505400"/>
              <a:ext cx="2614680" cy="74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2" name=""/>
            <p:cNvSpPr/>
            <p:nvPr/>
          </p:nvSpPr>
          <p:spPr>
            <a:xfrm>
              <a:off x="4800600" y="4583160"/>
              <a:ext cx="250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s-MX" sz="2400" spc="-1" strike="noStrike">
                  <a:solidFill>
                    <a:srgbClr val="003300"/>
                  </a:solidFill>
                  <a:latin typeface="Calibri"/>
                </a:rPr>
                <a:t>Gestión escola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3" name="10 CuadroTexto"/>
          <p:cNvGrpSpPr/>
          <p:nvPr/>
        </p:nvGrpSpPr>
        <p:grpSpPr>
          <a:xfrm>
            <a:off x="1847880" y="4505400"/>
            <a:ext cx="2797200" cy="749160"/>
            <a:chOff x="1847880" y="4505400"/>
            <a:chExt cx="2797200" cy="749160"/>
          </a:xfrm>
        </p:grpSpPr>
        <p:pic>
          <p:nvPicPr>
            <p:cNvPr id="1574" name="10 CuadroTexto" descr=""/>
            <p:cNvPicPr/>
            <p:nvPr/>
          </p:nvPicPr>
          <p:blipFill>
            <a:blip r:embed="rId5"/>
            <a:stretch/>
          </p:blipFill>
          <p:spPr>
            <a:xfrm>
              <a:off x="1847880" y="4505400"/>
              <a:ext cx="2797200" cy="74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5" name=""/>
            <p:cNvSpPr/>
            <p:nvPr/>
          </p:nvSpPr>
          <p:spPr>
            <a:xfrm>
              <a:off x="1905120" y="4583160"/>
              <a:ext cx="2685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s-MX" sz="2400" spc="-1" strike="noStrike">
                  <a:solidFill>
                    <a:srgbClr val="003300"/>
                  </a:solidFill>
                  <a:latin typeface="Calibri"/>
                </a:rPr>
                <a:t>Padres de famili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76" name="24 CuadroTexto" descr=""/>
          <p:cNvPicPr/>
          <p:nvPr/>
        </p:nvPicPr>
        <p:blipFill>
          <a:blip r:embed="rId6"/>
          <a:stretch/>
        </p:blipFill>
        <p:spPr>
          <a:xfrm>
            <a:off x="55440" y="2511360"/>
            <a:ext cx="730440" cy="3816360"/>
          </a:xfrm>
          <a:prstGeom prst="rect">
            <a:avLst/>
          </a:prstGeom>
          <a:ln w="0">
            <a:noFill/>
          </a:ln>
        </p:spPr>
      </p:pic>
      <p:sp>
        <p:nvSpPr>
          <p:cNvPr id="1577" name="26 CuadroTexto"/>
          <p:cNvSpPr/>
          <p:nvPr/>
        </p:nvSpPr>
        <p:spPr>
          <a:xfrm>
            <a:off x="838080" y="5838840"/>
            <a:ext cx="7715520" cy="88632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Calibri"/>
              </a:rPr>
              <a:t>Capacitación, asesoría, seguimiento, evalu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Calibri"/>
              </a:rPr>
              <a:t>Curso básico 20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78" name="45055 Conector recto de flecha"/>
          <p:cNvCxnSpPr/>
          <p:nvPr/>
        </p:nvCxnSpPr>
        <p:spPr>
          <a:xfrm flipV="1">
            <a:off x="3962160" y="2577240"/>
            <a:ext cx="549720" cy="747000"/>
          </a:xfrm>
          <a:prstGeom prst="straightConnector1">
            <a:avLst/>
          </a:prstGeom>
          <a:ln w="25560">
            <a:solidFill>
              <a:srgbClr val="4f81bd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579" name="45058 Conector recto de flecha"/>
          <p:cNvCxnSpPr/>
          <p:nvPr/>
        </p:nvCxnSpPr>
        <p:spPr>
          <a:xfrm>
            <a:off x="5320800" y="2577960"/>
            <a:ext cx="407160" cy="696240"/>
          </a:xfrm>
          <a:prstGeom prst="straightConnector1">
            <a:avLst/>
          </a:prstGeom>
          <a:ln w="25560">
            <a:solidFill>
              <a:srgbClr val="4f81bd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580" name="45063 Conector recto de flecha"/>
          <p:cNvCxnSpPr/>
          <p:nvPr/>
        </p:nvCxnSpPr>
        <p:spPr>
          <a:xfrm flipH="1">
            <a:off x="4236480" y="2577960"/>
            <a:ext cx="564120" cy="11613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581" name="45065 Conector recto de flecha"/>
          <p:cNvCxnSpPr/>
          <p:nvPr/>
        </p:nvCxnSpPr>
        <p:spPr>
          <a:xfrm>
            <a:off x="5010120" y="2577960"/>
            <a:ext cx="311760" cy="1145520"/>
          </a:xfrm>
          <a:prstGeom prst="straightConnector1">
            <a:avLst/>
          </a:prstGeom>
          <a:ln w="25560">
            <a:solidFill>
              <a:srgbClr val="4f81bd"/>
            </a:solidFill>
            <a:miter/>
            <a:headEnd len="med" type="arrow" w="med"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2 CuadroTexto"/>
          <p:cNvSpPr/>
          <p:nvPr/>
        </p:nvSpPr>
        <p:spPr>
          <a:xfrm>
            <a:off x="1504800" y="2222640"/>
            <a:ext cx="635976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3600" spc="-1" strike="noStrike">
                <a:solidFill>
                  <a:srgbClr val="800000"/>
                </a:solidFill>
                <a:latin typeface="Calibri"/>
              </a:rPr>
              <a:t>Profesionalización directiv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2400" spc="-1" strike="noStrike">
                <a:solidFill>
                  <a:srgbClr val="003300"/>
                </a:solidFill>
                <a:latin typeface="Calibri"/>
              </a:rPr>
              <a:t>Consejo Técnico Esco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Calibri"/>
              </a:rPr>
              <a:t>Ciclo escolar 2013 - 20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83" name=""/>
          <p:cNvGraphicFramePr/>
          <p:nvPr/>
        </p:nvGraphicFramePr>
        <p:xfrm>
          <a:off x="1644480" y="2141640"/>
          <a:ext cx="6353280" cy="4378320"/>
        </p:xfrm>
        <a:graphic>
          <a:graphicData uri="http://schemas.openxmlformats.org/drawingml/2006/table">
            <a:tbl>
              <a:tblPr/>
              <a:tblGrid>
                <a:gridCol w="1494000"/>
                <a:gridCol w="1843200"/>
                <a:gridCol w="3016080"/>
              </a:tblGrid>
              <a:tr h="5713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s-MX" sz="2200" spc="-1" strike="noStrike">
                          <a:solidFill>
                            <a:srgbClr val="003300"/>
                          </a:solidFill>
                          <a:latin typeface="Calibri"/>
                        </a:rPr>
                        <a:t>Sesió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c09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s-MX" sz="2200" spc="-1" strike="noStrike">
                          <a:solidFill>
                            <a:srgbClr val="003300"/>
                          </a:solidFill>
                          <a:latin typeface="Calibri"/>
                        </a:rPr>
                        <a:t>Dí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c09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s-MX" sz="2200" spc="-1" strike="noStrike">
                          <a:solidFill>
                            <a:srgbClr val="003300"/>
                          </a:solidFill>
                          <a:latin typeface="Calibri"/>
                        </a:rPr>
                        <a:t>Fech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c090"/>
                    </a:solidFill>
                  </a:tcPr>
                </a:tc>
              </a:tr>
              <a:tr h="6350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un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 de septiemb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336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un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 de octub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346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ern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 de octub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350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ern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 de octub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336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ern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 de noviemb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350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ern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 de noviemb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584" name="2 CuadroTexto"/>
          <p:cNvSpPr/>
          <p:nvPr/>
        </p:nvSpPr>
        <p:spPr>
          <a:xfrm>
            <a:off x="1638360" y="1092240"/>
            <a:ext cx="635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Calibri"/>
              </a:rPr>
              <a:t>Cuarto cur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Calibri"/>
              </a:rPr>
              <a:t>Regiones de Jalpan, Cadereyta y San Juan del 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85" name=""/>
          <p:cNvGraphicFramePr/>
          <p:nvPr/>
        </p:nvGraphicFramePr>
        <p:xfrm>
          <a:off x="1712880" y="2155680"/>
          <a:ext cx="6039000" cy="4378320"/>
        </p:xfrm>
        <a:graphic>
          <a:graphicData uri="http://schemas.openxmlformats.org/drawingml/2006/table">
            <a:tbl>
              <a:tblPr/>
              <a:tblGrid>
                <a:gridCol w="1494000"/>
                <a:gridCol w="1747800"/>
                <a:gridCol w="2797200"/>
              </a:tblGrid>
              <a:tr h="5716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s-MX" sz="2200" spc="-1" strike="noStrike">
                          <a:solidFill>
                            <a:srgbClr val="003300"/>
                          </a:solidFill>
                          <a:latin typeface="Calibri"/>
                        </a:rPr>
                        <a:t>Sesió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c09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s-MX" sz="2200" spc="-1" strike="noStrike">
                          <a:solidFill>
                            <a:srgbClr val="003300"/>
                          </a:solidFill>
                          <a:latin typeface="Calibri"/>
                        </a:rPr>
                        <a:t>Dí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c09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s-MX" sz="2200" spc="-1" strike="noStrike">
                          <a:solidFill>
                            <a:srgbClr val="003300"/>
                          </a:solidFill>
                          <a:latin typeface="Calibri"/>
                        </a:rPr>
                        <a:t>Fech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c090"/>
                    </a:solidFill>
                  </a:tcPr>
                </a:tc>
              </a:tr>
              <a:tr h="6350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érco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de octub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332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rt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 de octub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350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uev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 de octub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350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érco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 de octub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336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rt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 de octub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346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uev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 de noviemb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586" name="2 CuadroTexto"/>
          <p:cNvSpPr/>
          <p:nvPr/>
        </p:nvSpPr>
        <p:spPr>
          <a:xfrm>
            <a:off x="1712880" y="1201680"/>
            <a:ext cx="328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Calibri"/>
              </a:rPr>
              <a:t>Cuarto cur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Calibri"/>
              </a:rPr>
              <a:t>Región Queréta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87" name=""/>
          <p:cNvGraphicFramePr/>
          <p:nvPr/>
        </p:nvGraphicFramePr>
        <p:xfrm>
          <a:off x="1644480" y="2141640"/>
          <a:ext cx="6353280" cy="4378320"/>
        </p:xfrm>
        <a:graphic>
          <a:graphicData uri="http://schemas.openxmlformats.org/drawingml/2006/table">
            <a:tbl>
              <a:tblPr/>
              <a:tblGrid>
                <a:gridCol w="1494000"/>
                <a:gridCol w="1843200"/>
                <a:gridCol w="3016080"/>
              </a:tblGrid>
              <a:tr h="5713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s-MX" sz="2200" spc="-1" strike="noStrike">
                          <a:solidFill>
                            <a:srgbClr val="003300"/>
                          </a:solidFill>
                          <a:latin typeface="Calibri"/>
                        </a:rPr>
                        <a:t>Sesió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c09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s-MX" sz="2200" spc="-1" strike="noStrike">
                          <a:solidFill>
                            <a:srgbClr val="003300"/>
                          </a:solidFill>
                          <a:latin typeface="Calibri"/>
                        </a:rPr>
                        <a:t>Dí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c09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s-MX" sz="2200" spc="-1" strike="noStrike">
                          <a:solidFill>
                            <a:srgbClr val="003300"/>
                          </a:solidFill>
                          <a:latin typeface="Calibri"/>
                        </a:rPr>
                        <a:t>Fech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c090"/>
                    </a:solidFill>
                  </a:tcPr>
                </a:tc>
              </a:tr>
              <a:tr h="6350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une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 de marz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336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un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 de marz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346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érco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 de marz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350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un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 de marz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336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un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 de marz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350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un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 de abri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588" name="2 CuadroTexto"/>
          <p:cNvSpPr/>
          <p:nvPr/>
        </p:nvSpPr>
        <p:spPr>
          <a:xfrm>
            <a:off x="1638360" y="1092240"/>
            <a:ext cx="635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Calibri"/>
              </a:rPr>
              <a:t>Quinto cur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Calibri"/>
              </a:rPr>
              <a:t>Regiones de Jalpan, Cadereyta y San Juan del 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89" name=""/>
          <p:cNvGraphicFramePr/>
          <p:nvPr/>
        </p:nvGraphicFramePr>
        <p:xfrm>
          <a:off x="1712880" y="2155680"/>
          <a:ext cx="6039000" cy="4378320"/>
        </p:xfrm>
        <a:graphic>
          <a:graphicData uri="http://schemas.openxmlformats.org/drawingml/2006/table">
            <a:tbl>
              <a:tblPr/>
              <a:tblGrid>
                <a:gridCol w="1494000"/>
                <a:gridCol w="1747800"/>
                <a:gridCol w="2797200"/>
              </a:tblGrid>
              <a:tr h="5716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s-MX" sz="2200" spc="-1" strike="noStrike">
                          <a:solidFill>
                            <a:srgbClr val="003300"/>
                          </a:solidFill>
                          <a:latin typeface="Calibri"/>
                        </a:rPr>
                        <a:t>Sesió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c09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s-MX" sz="2200" spc="-1" strike="noStrike">
                          <a:solidFill>
                            <a:srgbClr val="003300"/>
                          </a:solidFill>
                          <a:latin typeface="Calibri"/>
                        </a:rPr>
                        <a:t>Dí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c09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s-MX" sz="2200" spc="-1" strike="noStrike">
                          <a:solidFill>
                            <a:srgbClr val="003300"/>
                          </a:solidFill>
                          <a:latin typeface="Calibri"/>
                        </a:rPr>
                        <a:t>Fech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c090"/>
                    </a:solidFill>
                  </a:tcPr>
                </a:tc>
              </a:tr>
              <a:tr h="6350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rt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 de marz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332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érco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 de marz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350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uev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 de marz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350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uev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 de marz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336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érco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de abri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346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érco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 de abri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590" name="2 CuadroTexto"/>
          <p:cNvSpPr/>
          <p:nvPr/>
        </p:nvSpPr>
        <p:spPr>
          <a:xfrm>
            <a:off x="1712880" y="1201680"/>
            <a:ext cx="328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Calibri"/>
              </a:rPr>
              <a:t>Quinto cur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Calibri"/>
              </a:rPr>
              <a:t>Región Queréta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18 CuadroTexto"/>
          <p:cNvSpPr/>
          <p:nvPr/>
        </p:nvSpPr>
        <p:spPr>
          <a:xfrm>
            <a:off x="299880" y="1039680"/>
            <a:ext cx="733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2800" spc="-1" strike="noStrike">
                <a:solidFill>
                  <a:srgbClr val="800000"/>
                </a:solidFill>
                <a:latin typeface="Arial"/>
              </a:rPr>
              <a:t>Conteni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2" name="1 CuadroTexto"/>
          <p:cNvSpPr/>
          <p:nvPr/>
        </p:nvSpPr>
        <p:spPr>
          <a:xfrm>
            <a:off x="299880" y="1955880"/>
            <a:ext cx="88441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2400" spc="-1" strike="noStrike">
                <a:solidFill>
                  <a:srgbClr val="a50021"/>
                </a:solidFill>
                <a:latin typeface="Arial"/>
              </a:rPr>
              <a:t>En Consejos Técn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24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es-MX" sz="24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es-MX" sz="2400" spc="-1" strike="noStrike">
                <a:solidFill>
                  <a:srgbClr val="003300"/>
                </a:solidFill>
                <a:latin typeface="Arial"/>
              </a:rPr>
              <a:t>a) Comprensión del plan de estudios y conocimiento </a:t>
            </a:r>
            <a:r>
              <a:rPr b="1" lang="es-MX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s-MX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s-MX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s-MX" sz="2400" spc="-1" strike="noStrike">
                <a:solidFill>
                  <a:srgbClr val="003300"/>
                </a:solidFill>
                <a:latin typeface="Arial"/>
              </a:rPr>
              <a:t>de los progra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s-MX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s-MX" sz="2400" spc="-1" strike="noStrike">
                <a:solidFill>
                  <a:srgbClr val="003300"/>
                </a:solidFill>
                <a:latin typeface="Arial"/>
              </a:rPr>
              <a:t>b) Actividades de aprendizaje para los alumn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2400" spc="-1" strike="noStrike">
                <a:solidFill>
                  <a:srgbClr val="a50021"/>
                </a:solidFill>
                <a:latin typeface="Arial"/>
              </a:rPr>
              <a:t>En CE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24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es-MX" sz="24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es-MX" sz="2400" spc="-1" strike="noStrike">
                <a:solidFill>
                  <a:srgbClr val="003300"/>
                </a:solidFill>
                <a:latin typeface="Arial"/>
              </a:rPr>
              <a:t>Evaluación formati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3" name="1 CuadroTexto"/>
          <p:cNvSpPr/>
          <p:nvPr/>
        </p:nvSpPr>
        <p:spPr>
          <a:xfrm>
            <a:off x="425520" y="5938920"/>
            <a:ext cx="856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En CTE – Temática transversal 60%    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(Construyendo la normalidad mínima escola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Necesidades específicas 4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9T19:10:32Z</dcterms:created>
  <dc:creator>Arlen</dc:creator>
  <dc:description/>
  <dc:language>en-US</dc:language>
  <cp:lastModifiedBy>Administrador</cp:lastModifiedBy>
  <cp:lastPrinted>2013-05-21T20:09:05Z</cp:lastPrinted>
  <dcterms:modified xsi:type="dcterms:W3CDTF">2013-05-28T16:38:27Z</dcterms:modified>
  <cp:revision>330</cp:revision>
  <dc:subject/>
  <dc:title>Texto</dc:title>
</cp:coreProperties>
</file>